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142-5CE9-4D61-99B7-40313B9B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FA4-F4E5-4925-9A20-A9A69B27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EC2-9E15-4CFB-8D23-2044500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AD0-E257-498B-90B8-53C6CC9D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38D-DB67-4312-8386-BE96546B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3AC-C586-48EA-9AE9-07B7666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BF7-A8D0-4C3E-87FB-6BCB2C6E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C85-8D33-4A8C-8BC9-0C5664F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A51-D8BA-4E6F-B340-F994D5F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49A-BE5A-40E2-9862-7F707DE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C23-7B16-465D-9806-232462A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73B-C3F3-461E-8E82-6283C79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E6F5-A9CF-4E08-8A02-5FD17A1ED7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52456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75440" y="5079960"/>
            <a:ext cx="1168560" cy="177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189240" y="620640"/>
            <a:ext cx="2967120" cy="451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83640" y="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5:07Z</dcterms:modified>
  <cp:revision>3</cp:revision>
  <dc:subject>主题班会课件(分28大类): http://shop62905894.taobao.com</dc:subject>
  <dc:title>主题班会课件(分28大类): http://shop62905894.taobao.com</dc:title>
</cp:coreProperties>
</file>